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1F6-AC6A-45C3-B740-99B4B6F8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897-2BA4-4DC7-8803-E63CCF6F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284-45F6-4577-80F5-0FCDD58C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5D1-877D-4B3D-B7FB-A54FAFC3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525F7-9E92-4CC0-9D7F-98937C26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45805-7BC3-42D3-81E2-9B567874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766A1-70D5-4F5E-BA2A-34EBEECC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85422-B108-4F24-B0CF-0F1E0D61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93535-9F20-40CE-82F7-DF89CD02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E1F96-041A-4DAC-8098-536F6150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8CB17-FF5A-489A-8D81-401B8A50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930-E189-4184-A420-129D7A69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FCCBF-955F-4448-BBE8-F7DA840F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131DA-470D-4BC1-B897-46BDF051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D1134-F894-46DF-ABD0-6EA2BC13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C5FB9-BB0A-4229-90BA-BF64DAA2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5BF56-09B5-4B63-9FDE-88FCEC7B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B086-F155-4B2E-94FF-87EA33AC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EB03-4DBE-4043-AB8F-2AFF0ADB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F97B-7B58-4CBF-A1B1-9A511D8F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01E8-AB13-45F2-9232-53CBF975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924D-48D9-4731-8B80-4C9BAD8C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56F-7E62-422F-99A2-1CE083C1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441B-8832-4E4D-9596-DD80F399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860B-4672-4934-9912-8924E55F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5B00-6D1D-4326-81AF-1CF6BAFE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85F2-9CB9-4ECE-88D9-7EC560E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CAA5-A3E4-4D6B-836D-8B066DD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8A49-A214-4024-BAA7-3881EC4C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EEC3-A766-4C3D-BF60-C03ACEEE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FB5-9986-4EEC-AF88-652071A6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67F-170A-40A2-BF0D-A6146411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9ED-CFC0-4983-9B28-D9730373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94C-9D4F-44C3-8E5B-186768FE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B77-EC3B-4265-97DE-38EA7868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92C-C1AC-4E98-A5AF-7FAD13F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CA72-EAE8-48DC-908B-F0C1536A53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FA7-82A8-4F41-AA94-B378A0C5DBFE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8CF8-5D8C-4670-A382-5677BE37D418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15480" y="1627920"/>
            <a:ext cx="89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evelopment of New Online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for Super-Kamiokan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66120" y="5013360"/>
            <a:ext cx="27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山田 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大宇宙線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4360" y="69228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BatangChe"/>
              </a:rPr>
              <a:t>Status monitor &amp; Data flow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5640" y="1557360"/>
            <a:ext cx="3570120" cy="4392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3600" y="2036880"/>
            <a:ext cx="3094200" cy="1596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54600" y="2197080"/>
            <a:ext cx="103032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04240" y="2197080"/>
            <a:ext cx="102996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30880" y="3633840"/>
            <a:ext cx="1111320" cy="6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14840" y="4911840"/>
            <a:ext cx="142884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104240" y="4911840"/>
            <a:ext cx="142848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71720" y="3952800"/>
            <a:ext cx="3095640" cy="1677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469880" y="2036880"/>
            <a:ext cx="2141640" cy="317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tat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5640" y="1557360"/>
            <a:ext cx="35701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twork shar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407240" y="2435400"/>
            <a:ext cx="21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eck proce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alive or d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tart / 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90680" y="3952800"/>
            <a:ext cx="2538360" cy="395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ta flow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34800" y="4511520"/>
            <a:ext cx="25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trol distrib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f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167000" y="2914560"/>
            <a:ext cx="1587240" cy="15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087800" y="2674800"/>
            <a:ext cx="1666800" cy="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87800" y="235440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09480" y="2492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atu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5640" y="206064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18922200">
            <a:off x="3776040" y="342828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ze of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46560" y="2994120"/>
            <a:ext cx="1984320" cy="18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9158600">
            <a:off x="4135680" y="364464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ll destination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167000" y="5389560"/>
            <a:ext cx="1347480" cy="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57160" y="53006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atus of process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16720" y="2924280"/>
            <a:ext cx="14292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092720" y="2924280"/>
            <a:ext cx="21564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156360" y="4292640"/>
            <a:ext cx="50328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77080" y="4292640"/>
            <a:ext cx="86364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3920" y="50328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4, Aiming at dead time fre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4360" y="1484280"/>
            <a:ext cx="57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dead time as much as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nova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55640" y="232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8000" y="2565360"/>
            <a:ext cx="42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Quick exchange of the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9160" y="3500280"/>
            <a:ext cx="55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* High availability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26920" y="5084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stand b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69160" y="4221000"/>
            <a:ext cx="48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is installed inside of the m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fix the trouble 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405080" y="465300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79240" y="47242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2252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2580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63052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2580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3088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43280" y="58053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48360" y="549360"/>
            <a:ext cx="18000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21800" y="622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484000" y="4078440"/>
            <a:ext cx="3240" cy="50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00520" y="59292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76880" y="4149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48360" y="4653000"/>
            <a:ext cx="18000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21800" y="47260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48360" y="2349360"/>
            <a:ext cx="180000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21800" y="2422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6623640" y="2889360"/>
            <a:ext cx="230508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6699240" y="29624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 GbE x 48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0508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05080" y="54936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1121760" y="15256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0980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1666080" y="1560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308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2169000" y="1560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9240" y="6206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2252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258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3052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258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308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43280" y="17017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00520" y="18255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405080" y="234792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79240" y="241920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2252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580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3052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2580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3088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43280" y="350028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00520" y="362412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00000">
            <a:off x="-541080" y="3141720"/>
            <a:ext cx="2233440" cy="502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16200000">
            <a:off x="-501480" y="32133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 GbE x 24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4360" y="4508640"/>
            <a:ext cx="0" cy="19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4360" y="6453360"/>
            <a:ext cx="446400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48360" y="5661000"/>
            <a:ext cx="1800000" cy="8650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21800" y="57340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stand-b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8360" y="6669000"/>
            <a:ext cx="676764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8360" y="4508640"/>
            <a:ext cx="0" cy="2160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26920" y="436572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16000" y="4365720"/>
            <a:ext cx="0" cy="576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26920" y="2637000"/>
            <a:ext cx="57816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16000" y="494172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16000" y="765000"/>
            <a:ext cx="0" cy="1656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16000" y="76500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6920" y="242100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48360" y="4869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948360" y="2565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948360" y="76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236000" y="765000"/>
            <a:ext cx="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6000" y="24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36000" y="4149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236000" y="4149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67640" y="4292640"/>
            <a:ext cx="0" cy="144144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885080" y="4292640"/>
            <a:ext cx="0" cy="165744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88000" y="76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88000" y="4869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88000" y="2565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237440" y="5948280"/>
            <a:ext cx="1800360" cy="865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10880" y="602136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stand-b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6200000">
            <a:off x="-425880" y="5519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cc"/>
                </a:solidFill>
                <a:latin typeface="Arial"/>
              </a:rPr>
              <a:t>backup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28000" y="292428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6200000">
            <a:off x="7840080" y="272592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549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35240" y="4762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28880" y="134604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3485160" y="15656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32160" y="134604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6200000">
            <a:off x="3988440" y="15656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2560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18188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2888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200000">
            <a:off x="168480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0196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355824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0524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406152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2560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200000">
            <a:off x="118188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2888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168480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2888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6200000">
            <a:off x="348516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3216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16200000">
            <a:off x="398844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0524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226116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0524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226116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189000" y="404640"/>
            <a:ext cx="73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5, Current Status of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29520" y="4581360"/>
            <a:ext cx="9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Toward Joint-test with new electronics in summer</a:t>
            </a:r>
            <a:r>
              <a:rPr b="0" lang="ja-JP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200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5400" y="112536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Start development from upstream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53920" y="2666880"/>
            <a:ext cx="308484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27520" y="2666880"/>
            <a:ext cx="262404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5084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40680" y="22874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84160" y="228744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47760" y="1844640"/>
            <a:ext cx="190188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82840" y="1844640"/>
            <a:ext cx="190368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18280" y="1844640"/>
            <a:ext cx="190152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35080" y="2982960"/>
            <a:ext cx="7858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5272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5476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35560" y="2982960"/>
            <a:ext cx="7876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5280" y="3425760"/>
            <a:ext cx="460440" cy="316080"/>
          </a:xfrm>
          <a:prstGeom prst="rightArrow">
            <a:avLst>
              <a:gd name="adj1" fmla="val 50000"/>
              <a:gd name="adj2" fmla="val 3641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38760" y="3362400"/>
            <a:ext cx="788760" cy="315720"/>
          </a:xfrm>
          <a:prstGeom prst="rightArrow">
            <a:avLst>
              <a:gd name="adj1" fmla="val 50000"/>
              <a:gd name="adj2" fmla="val 6245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51560" y="3425760"/>
            <a:ext cx="460440" cy="316080"/>
          </a:xfrm>
          <a:prstGeom prst="rightArrow">
            <a:avLst>
              <a:gd name="adj1" fmla="val 50000"/>
              <a:gd name="adj2" fmla="val 3641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2200" y="2603520"/>
            <a:ext cx="4987800" cy="822240"/>
          </a:xfrm>
          <a:prstGeom prst="rightArrow">
            <a:avLst>
              <a:gd name="adj1" fmla="val 58824"/>
              <a:gd name="adj2" fmla="val 6967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7636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00" y="623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78520" y="623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35640" y="5877000"/>
            <a:ext cx="1873080" cy="216000"/>
          </a:xfrm>
          <a:prstGeom prst="rightArrow">
            <a:avLst>
              <a:gd name="adj1" fmla="val 50000"/>
              <a:gd name="adj2" fmla="val 2167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27800" y="5157720"/>
            <a:ext cx="15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ull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528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0000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40328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800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1128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16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19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24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27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32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35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940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43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4836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45164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459640" y="602136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476360" y="6210360"/>
            <a:ext cx="576360" cy="647640"/>
          </a:xfrm>
          <a:prstGeom prst="upArrowCallout">
            <a:avLst>
              <a:gd name="adj1" fmla="val 13761"/>
              <a:gd name="adj2" fmla="val 25000"/>
              <a:gd name="adj3" fmla="val 18795"/>
              <a:gd name="adj4" fmla="val 808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564000" y="508464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444960" y="349200"/>
            <a:ext cx="84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</a:rPr>
              <a:t>Test of the prototype in Front End PC(FE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5600" y="2386080"/>
            <a:ext cx="7921440" cy="428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15960" y="293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1120" y="29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3960" y="4154400"/>
            <a:ext cx="1176120" cy="6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2252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24240" y="3881520"/>
            <a:ext cx="3797280" cy="108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406680" y="6058080"/>
            <a:ext cx="1832040" cy="474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344600" y="2997360"/>
            <a:ext cx="1144440" cy="11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00080" y="442440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08040" y="4765680"/>
            <a:ext cx="189864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2252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33920" y="5310360"/>
            <a:ext cx="1046160" cy="406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4632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1320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92560" y="4970520"/>
            <a:ext cx="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92560" y="5718240"/>
            <a:ext cx="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23400" y="31320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thread_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512360" y="55134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thread_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0188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5908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7056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3564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50200" y="340524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40600" y="340524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729560" y="3405240"/>
            <a:ext cx="5889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50200" y="361008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140600" y="361008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729560" y="3610080"/>
            <a:ext cx="58896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550200" y="381312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0600" y="381312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729560" y="3813120"/>
            <a:ext cx="5889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0200" y="401796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40600" y="401796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729560" y="4017960"/>
            <a:ext cx="58896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550200" y="4221000"/>
            <a:ext cx="590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40600" y="4221000"/>
            <a:ext cx="590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729560" y="4221000"/>
            <a:ext cx="58896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50200" y="4560840"/>
            <a:ext cx="5904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729560" y="4560840"/>
            <a:ext cx="5889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40600" y="4560840"/>
            <a:ext cx="5904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548040" y="2657520"/>
            <a:ext cx="208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5400000">
            <a:off x="2309400" y="4263840"/>
            <a:ext cx="884160" cy="39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5400000">
            <a:off x="2833200" y="4263840"/>
            <a:ext cx="884160" cy="39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5400000">
            <a:off x="33584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5400000">
            <a:off x="38822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5400000">
            <a:off x="44060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545220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58440" y="437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09480" y="50385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3392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7844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9256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5600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3392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7844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1320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9256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3564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3012840" y="2928960"/>
            <a:ext cx="38624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4192200" y="2928960"/>
            <a:ext cx="327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5502240" y="2928960"/>
            <a:ext cx="248616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2620800" y="2317680"/>
            <a:ext cx="262080" cy="339480"/>
            <a:chOff x="2620800" y="2317680"/>
            <a:chExt cx="262080" cy="339480"/>
          </a:xfrm>
        </p:grpSpPr>
        <p:sp>
          <p:nvSpPr>
            <p:cNvPr id="902" name=""/>
            <p:cNvSpPr/>
            <p:nvPr/>
          </p:nvSpPr>
          <p:spPr>
            <a:xfrm>
              <a:off x="2620800" y="2317680"/>
              <a:ext cx="2620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620800" y="23850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20800" y="2454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20800" y="2521080"/>
              <a:ext cx="2620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20800" y="259020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798720" y="2317680"/>
            <a:ext cx="262080" cy="339480"/>
            <a:chOff x="3798720" y="2317680"/>
            <a:chExt cx="262080" cy="339480"/>
          </a:xfrm>
        </p:grpSpPr>
        <p:sp>
          <p:nvSpPr>
            <p:cNvPr id="908" name=""/>
            <p:cNvSpPr/>
            <p:nvPr/>
          </p:nvSpPr>
          <p:spPr>
            <a:xfrm>
              <a:off x="3798720" y="2317680"/>
              <a:ext cx="2620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98720" y="23850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98720" y="2454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98720" y="2521080"/>
              <a:ext cx="2620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98720" y="259020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043600" y="2317680"/>
            <a:ext cx="260280" cy="339480"/>
            <a:chOff x="5043600" y="2317680"/>
            <a:chExt cx="260280" cy="339480"/>
          </a:xfrm>
        </p:grpSpPr>
        <p:sp>
          <p:nvSpPr>
            <p:cNvPr id="914" name=""/>
            <p:cNvSpPr/>
            <p:nvPr/>
          </p:nvSpPr>
          <p:spPr>
            <a:xfrm>
              <a:off x="5043600" y="2317680"/>
              <a:ext cx="2602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43600" y="2385000"/>
              <a:ext cx="2602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43600" y="2454120"/>
              <a:ext cx="2602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43600" y="2521080"/>
              <a:ext cx="2602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043600" y="2590200"/>
              <a:ext cx="2602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967680" y="19969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3476520" y="5013360"/>
            <a:ext cx="262080" cy="1428480"/>
            <a:chOff x="3476520" y="5013360"/>
            <a:chExt cx="262080" cy="1428480"/>
          </a:xfrm>
        </p:grpSpPr>
        <p:sp>
          <p:nvSpPr>
            <p:cNvPr id="921" name=""/>
            <p:cNvSpPr/>
            <p:nvPr/>
          </p:nvSpPr>
          <p:spPr>
            <a:xfrm>
              <a:off x="3476520" y="5013360"/>
              <a:ext cx="262080" cy="6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76520" y="51498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76520" y="5082120"/>
              <a:ext cx="262080" cy="6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76520" y="528768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76520" y="522036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76520" y="542232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76520" y="535536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76520" y="5559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76520" y="549144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76520" y="569556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76520" y="5627880"/>
              <a:ext cx="262080" cy="6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76520" y="583056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76520" y="5762880"/>
              <a:ext cx="262080" cy="6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76520" y="596664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76520" y="589932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476520" y="610308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76520" y="603576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76520" y="623808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76520" y="617076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76520" y="637488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476520" y="630720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971640" y="981000"/>
            <a:ext cx="6985080" cy="576360"/>
            <a:chOff x="971640" y="981000"/>
            <a:chExt cx="6985080" cy="576360"/>
          </a:xfrm>
        </p:grpSpPr>
        <p:sp>
          <p:nvSpPr>
            <p:cNvPr id="943" name=""/>
            <p:cNvSpPr/>
            <p:nvPr/>
          </p:nvSpPr>
          <p:spPr>
            <a:xfrm>
              <a:off x="971640" y="981000"/>
              <a:ext cx="6985080" cy="57636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35360" y="995400"/>
              <a:ext cx="68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 data from 30 Qbee and sort them in time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332000" y="1052640"/>
            <a:ext cx="5832360" cy="647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95040" y="333360"/>
            <a:ext cx="88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Transfer speed from daughter board of QB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4716360" y="3595680"/>
            <a:ext cx="3959280" cy="32623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2"/>
          <a:stretch/>
        </p:blipFill>
        <p:spPr>
          <a:xfrm>
            <a:off x="539640" y="3446640"/>
            <a:ext cx="4140360" cy="341136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3851280" y="2565360"/>
            <a:ext cx="144000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43640" y="2421000"/>
            <a:ext cx="1440000" cy="93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291280" y="2925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26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6400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24400" y="50133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MB/s@10kHz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5800" y="2133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00760" y="1125360"/>
            <a:ext cx="56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1Gbps( &gt; 45MB/s) has been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92360" y="2255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32000" y="2708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32000" y="278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132000" y="285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32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71640" y="2205000"/>
            <a:ext cx="1368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157760" y="2421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41800" y="227664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78640" y="184140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seudo-rando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4346640" y="2905200"/>
            <a:ext cx="4797360" cy="3952800"/>
            <a:chOff x="4346640" y="2905200"/>
            <a:chExt cx="4797360" cy="3952800"/>
          </a:xfrm>
        </p:grpSpPr>
        <p:pic>
          <p:nvPicPr>
            <p:cNvPr id="968" name="" descr=""/>
            <p:cNvPicPr/>
            <p:nvPr/>
          </p:nvPicPr>
          <p:blipFill>
            <a:blip r:embed="rId1"/>
            <a:stretch/>
          </p:blipFill>
          <p:spPr>
            <a:xfrm>
              <a:off x="4346640" y="2905200"/>
              <a:ext cx="479736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5364000" y="4921560"/>
              <a:ext cx="31528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88000" y="4489560"/>
              <a:ext cx="18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45MBytes/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468360" y="1413000"/>
            <a:ext cx="3672000" cy="13683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63960" y="479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Sorting spe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1880" y="1557360"/>
            <a:ext cx="34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ul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ook Antiqua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77MB/s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&gt; 45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5280" y="3645000"/>
            <a:ext cx="302436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orting process is bottleneck in FEPC, but the rate above 45MB/s is achieved in the prototyp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92720" y="1125360"/>
            <a:ext cx="308448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64000" y="1413000"/>
            <a:ext cx="7876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473880" y="1441440"/>
            <a:ext cx="7858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524720" y="141300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372360" y="162864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303240" y="692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62720" y="476280"/>
            <a:ext cx="46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Prototype in Merger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836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ollect data in a time window from Every FEPC to one 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* The time window should be overl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ata is merged in time order and sent to Software trig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7040" y="592596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93680" y="499896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93680" y="4132440"/>
            <a:ext cx="2714760" cy="742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2003040" y="6111720"/>
            <a:ext cx="680760" cy="341640"/>
            <a:chOff x="2003040" y="6111720"/>
            <a:chExt cx="680760" cy="341640"/>
          </a:xfrm>
        </p:grpSpPr>
        <p:sp>
          <p:nvSpPr>
            <p:cNvPr id="987" name=""/>
            <p:cNvSpPr/>
            <p:nvPr/>
          </p:nvSpPr>
          <p:spPr>
            <a:xfrm rot="5400000">
              <a:off x="2294280" y="6209280"/>
              <a:ext cx="34164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5400000">
              <a:off x="2198160" y="6257160"/>
              <a:ext cx="34164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5400000">
              <a:off x="2149920" y="6258240"/>
              <a:ext cx="34164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5400000">
              <a:off x="2075760" y="6232680"/>
              <a:ext cx="34164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5400000">
              <a:off x="2004480" y="6258240"/>
              <a:ext cx="34164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5400000">
              <a:off x="1905480" y="6209280"/>
              <a:ext cx="34164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5400000">
              <a:off x="2463840" y="6233400"/>
              <a:ext cx="34164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5400000">
              <a:off x="2388960" y="6257160"/>
              <a:ext cx="34164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003040" y="5183280"/>
            <a:ext cx="680760" cy="342720"/>
            <a:chOff x="2003040" y="5183280"/>
            <a:chExt cx="680760" cy="342720"/>
          </a:xfrm>
        </p:grpSpPr>
        <p:sp>
          <p:nvSpPr>
            <p:cNvPr id="996" name=""/>
            <p:cNvSpPr/>
            <p:nvPr/>
          </p:nvSpPr>
          <p:spPr>
            <a:xfrm rot="5400000">
              <a:off x="2293560" y="528120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5400000">
              <a:off x="2197440" y="532908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5400000">
              <a:off x="2149560" y="5330520"/>
              <a:ext cx="34272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5400000">
              <a:off x="2075400" y="5304960"/>
              <a:ext cx="34272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5400000">
              <a:off x="2004120" y="5330520"/>
              <a:ext cx="34272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5400000">
              <a:off x="1904760" y="528120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5400000">
              <a:off x="2463120" y="5305320"/>
              <a:ext cx="34272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2388240" y="532908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003040" y="4317840"/>
            <a:ext cx="680760" cy="343080"/>
            <a:chOff x="2003040" y="4317840"/>
            <a:chExt cx="680760" cy="343080"/>
          </a:xfrm>
        </p:grpSpPr>
        <p:sp>
          <p:nvSpPr>
            <p:cNvPr id="1005" name=""/>
            <p:cNvSpPr/>
            <p:nvPr/>
          </p:nvSpPr>
          <p:spPr>
            <a:xfrm rot="5400000">
              <a:off x="2293560" y="4416120"/>
              <a:ext cx="34308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5400000">
              <a:off x="2197440" y="4464000"/>
              <a:ext cx="34308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5400000">
              <a:off x="2149200" y="4465080"/>
              <a:ext cx="34308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5400000">
              <a:off x="2075040" y="4439520"/>
              <a:ext cx="34308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5400000">
              <a:off x="2003760" y="4465080"/>
              <a:ext cx="34308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5400000">
              <a:off x="1904760" y="4416120"/>
              <a:ext cx="34308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5400000">
              <a:off x="2463120" y="4440240"/>
              <a:ext cx="34308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5400000">
              <a:off x="2388240" y="4464000"/>
              <a:ext cx="34308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93680" y="320364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162080" y="2276640"/>
            <a:ext cx="1033560" cy="55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57040" y="2338560"/>
            <a:ext cx="1033560" cy="49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03400" y="2338560"/>
            <a:ext cx="905040" cy="493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001600" y="3389400"/>
            <a:ext cx="680400" cy="342720"/>
            <a:chOff x="2001600" y="3389400"/>
            <a:chExt cx="680400" cy="342720"/>
          </a:xfrm>
        </p:grpSpPr>
        <p:sp>
          <p:nvSpPr>
            <p:cNvPr id="1018" name=""/>
            <p:cNvSpPr/>
            <p:nvPr/>
          </p:nvSpPr>
          <p:spPr>
            <a:xfrm rot="5400000">
              <a:off x="2292120" y="348732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5400000">
              <a:off x="2195640" y="353520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400000">
              <a:off x="2147760" y="3536640"/>
              <a:ext cx="34272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5400000">
              <a:off x="2073960" y="3511080"/>
              <a:ext cx="34272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5400000">
              <a:off x="2002320" y="3536640"/>
              <a:ext cx="34272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5400000">
              <a:off x="1903320" y="348732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2461320" y="3511440"/>
              <a:ext cx="34272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5400000">
              <a:off x="2386440" y="353520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 rot="5400000">
            <a:off x="1521720" y="3486960"/>
            <a:ext cx="34272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5400000">
            <a:off x="142344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5400000">
            <a:off x="1371960" y="3535920"/>
            <a:ext cx="34272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5400000">
            <a:off x="1298160" y="3511440"/>
            <a:ext cx="34272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5400000">
            <a:off x="1225800" y="353592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5400000">
            <a:off x="1128240" y="3487680"/>
            <a:ext cx="342720" cy="14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5400000">
            <a:off x="1693440" y="3511440"/>
            <a:ext cx="34272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5400000">
            <a:off x="162036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5400000">
            <a:off x="6851880" y="5614200"/>
            <a:ext cx="34128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6687360" y="5761800"/>
            <a:ext cx="341280" cy="51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5400000">
            <a:off x="6508080" y="5634000"/>
            <a:ext cx="341280" cy="30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5400000">
            <a:off x="6333480" y="576252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5400000">
            <a:off x="6105600" y="5585040"/>
            <a:ext cx="341280" cy="40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5400000">
            <a:off x="7123320" y="5738040"/>
            <a:ext cx="3412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5400000">
            <a:off x="7048800" y="576180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5400000">
            <a:off x="1557000" y="4414680"/>
            <a:ext cx="34308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5400000">
            <a:off x="1459440" y="4461480"/>
            <a:ext cx="3430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5400000">
            <a:off x="1406880" y="4463280"/>
            <a:ext cx="34308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1333080" y="4438800"/>
            <a:ext cx="34308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1262520" y="446328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1164240" y="4413960"/>
            <a:ext cx="34308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1730160" y="443844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5400000">
            <a:off x="1655280" y="44625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5400000">
            <a:off x="811440" y="4418640"/>
            <a:ext cx="34128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712800" y="4465440"/>
            <a:ext cx="3412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662760" y="4467960"/>
            <a:ext cx="34128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588240" y="4442400"/>
            <a:ext cx="34128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5400000">
            <a:off x="516960" y="446688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rot="5400000">
            <a:off x="418320" y="4418640"/>
            <a:ext cx="34128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5400000">
            <a:off x="983520" y="4442400"/>
            <a:ext cx="3412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908280" y="446616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5400000">
            <a:off x="1558080" y="5280840"/>
            <a:ext cx="34128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1460520" y="5327640"/>
            <a:ext cx="3412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5400000">
            <a:off x="1407600" y="5329080"/>
            <a:ext cx="34128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1333800" y="5304600"/>
            <a:ext cx="34128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5400000">
            <a:off x="1263240" y="532908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rot="5400000">
            <a:off x="1165320" y="5280120"/>
            <a:ext cx="34128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rot="5400000">
            <a:off x="1731240" y="5304600"/>
            <a:ext cx="3412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rot="5400000">
            <a:off x="1656000" y="532836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5400000">
            <a:off x="810720" y="5284800"/>
            <a:ext cx="34272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5400000">
            <a:off x="712080" y="533160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5400000">
            <a:off x="662040" y="5334120"/>
            <a:ext cx="34272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rot="5400000">
            <a:off x="587520" y="5308560"/>
            <a:ext cx="34272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5400000">
            <a:off x="516240" y="533304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rot="5400000">
            <a:off x="417600" y="5284800"/>
            <a:ext cx="34272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rot="5400000">
            <a:off x="982800" y="530856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5400000">
            <a:off x="907560" y="533232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1557720" y="6209280"/>
            <a:ext cx="34164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rot="5400000">
            <a:off x="1460160" y="6256080"/>
            <a:ext cx="34164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5400000">
            <a:off x="1407600" y="6257880"/>
            <a:ext cx="34164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5400000">
            <a:off x="1333800" y="6233400"/>
            <a:ext cx="34164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5400000">
            <a:off x="1263240" y="6257880"/>
            <a:ext cx="34164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rot="5400000">
            <a:off x="1164960" y="6208560"/>
            <a:ext cx="34164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5400000">
            <a:off x="1730880" y="6233040"/>
            <a:ext cx="34164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5400000">
            <a:off x="1656000" y="6257160"/>
            <a:ext cx="34164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5400000">
            <a:off x="810720" y="6213600"/>
            <a:ext cx="34308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5400000">
            <a:off x="711720" y="6260040"/>
            <a:ext cx="3430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5400000">
            <a:off x="661680" y="6262560"/>
            <a:ext cx="34308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5400000">
            <a:off x="587160" y="6237000"/>
            <a:ext cx="34308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rot="5400000">
            <a:off x="516240" y="62618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rot="5400000">
            <a:off x="417240" y="6213240"/>
            <a:ext cx="34308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982440" y="623700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5400000">
            <a:off x="907560" y="62611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70520" y="3513240"/>
            <a:ext cx="1420560" cy="680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eap s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0520" y="4502160"/>
            <a:ext cx="1420560" cy="68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70520" y="5492880"/>
            <a:ext cx="1420560" cy="68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47800" y="3576600"/>
            <a:ext cx="1422720" cy="244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08280" y="3699000"/>
            <a:ext cx="2262240" cy="1112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62080" y="3699000"/>
            <a:ext cx="2908440" cy="2163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712960" y="3821040"/>
            <a:ext cx="1357560" cy="681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2712960" y="3820680"/>
            <a:ext cx="1357560" cy="1546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712960" y="3820680"/>
            <a:ext cx="1357560" cy="2475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873080" y="4626000"/>
            <a:ext cx="2197440" cy="185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1936800" y="4811760"/>
            <a:ext cx="2133720" cy="619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1936800" y="4811400"/>
            <a:ext cx="2133720" cy="129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096920" y="4502160"/>
            <a:ext cx="2973600" cy="1360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162080" y="5407200"/>
            <a:ext cx="2908440" cy="455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162080" y="5925960"/>
            <a:ext cx="2908440" cy="370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-360" y="2832120"/>
            <a:ext cx="316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3988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0324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96840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03356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048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9564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6044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2560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48608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072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80828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3080" y="252252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8444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5400000">
            <a:off x="6848640" y="3700440"/>
            <a:ext cx="342720" cy="33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5400000">
            <a:off x="6703560" y="38448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484320" y="3675960"/>
            <a:ext cx="342720" cy="388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5400000">
            <a:off x="6104880" y="3668040"/>
            <a:ext cx="342720" cy="404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5400000">
            <a:off x="7114680" y="3821040"/>
            <a:ext cx="34272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5400000">
            <a:off x="7039800" y="384408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5400000">
            <a:off x="6850440" y="4626720"/>
            <a:ext cx="343080" cy="34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5400000">
            <a:off x="668916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5400000">
            <a:off x="6508440" y="4644720"/>
            <a:ext cx="343080" cy="308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5400000">
            <a:off x="633204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5400000">
            <a:off x="6104520" y="4596480"/>
            <a:ext cx="343080" cy="40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5400000">
            <a:off x="7121160" y="4749840"/>
            <a:ext cx="3430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rot="5400000">
            <a:off x="704808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91080" y="3884760"/>
            <a:ext cx="5828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rot="5400000">
            <a:off x="740880" y="3487680"/>
            <a:ext cx="34272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5400000">
            <a:off x="642240" y="353448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5400000">
            <a:off x="592200" y="3537000"/>
            <a:ext cx="34272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5400000">
            <a:off x="517680" y="3511440"/>
            <a:ext cx="34272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5400000">
            <a:off x="446400" y="353592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rot="5400000">
            <a:off x="347400" y="3487680"/>
            <a:ext cx="34272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5400000">
            <a:off x="912960" y="351144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5400000">
            <a:off x="83772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91080" y="4813200"/>
            <a:ext cx="582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91080" y="5803920"/>
            <a:ext cx="582840" cy="6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5400000">
            <a:off x="6313680" y="3846600"/>
            <a:ext cx="342720" cy="47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100160" y="28954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24720" y="4464000"/>
            <a:ext cx="287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860600" y="436572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24720" y="5400720"/>
            <a:ext cx="2872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24720" y="3527280"/>
            <a:ext cx="287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 rot="10800000">
            <a:off x="6948000" y="5373720"/>
            <a:ext cx="343080" cy="21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240" y="404640"/>
            <a:ext cx="90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Book Antiqua"/>
              </a:rPr>
              <a:t>Data processing speed of merger prot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24000" y="1628640"/>
            <a:ext cx="4032000" cy="13687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46400" y="1773360"/>
            <a:ext cx="13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ul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4480" y="2276640"/>
            <a:ext cx="41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ook Antiqua"/>
              </a:rPr>
              <a:t>～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100 (MB/s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&lt; 108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9280" y="400536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dditional Merger PC will re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ad per one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MT rate of 10kHz in assump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larger than measured rate of 4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92720" y="3500280"/>
            <a:ext cx="16556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psor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6000" y="3500280"/>
            <a:ext cx="16556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_hea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0800000">
            <a:off x="586692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0800000">
            <a:off x="586692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10800000">
            <a:off x="586692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10800000">
            <a:off x="586692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10800000">
            <a:off x="586692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10800000">
            <a:off x="586692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10800000">
            <a:off x="586692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0800000">
            <a:off x="586692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0800000">
            <a:off x="658764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0800000">
            <a:off x="658764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0800000">
            <a:off x="658764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0800000">
            <a:off x="658764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10800000">
            <a:off x="658764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10800000">
            <a:off x="658764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0800000">
            <a:off x="658764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0800000">
            <a:off x="658764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0800000">
            <a:off x="7236000" y="1585800"/>
            <a:ext cx="34272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0800000">
            <a:off x="7236000" y="153792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7236000" y="1490760"/>
            <a:ext cx="34272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0800000">
            <a:off x="7236000" y="1390680"/>
            <a:ext cx="34272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7236000" y="134424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10800000">
            <a:off x="7236000" y="1197000"/>
            <a:ext cx="34272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10800000">
            <a:off x="7236000" y="177948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0800000">
            <a:off x="7236000" y="172836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0800000">
            <a:off x="788472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rot="10800000">
            <a:off x="788472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10800000">
            <a:off x="788472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10800000">
            <a:off x="788472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10800000">
            <a:off x="788472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rot="10800000">
            <a:off x="788472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10800000">
            <a:off x="788472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10800000">
            <a:off x="788472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0800000">
            <a:off x="529236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10800000">
            <a:off x="723600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0800000">
            <a:off x="529236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0800000">
            <a:off x="529236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0800000">
            <a:off x="723600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0800000">
            <a:off x="529236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10800000">
            <a:off x="7667640" y="3068280"/>
            <a:ext cx="34272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10800000">
            <a:off x="7236000" y="2997360"/>
            <a:ext cx="342720" cy="71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10800000">
            <a:off x="572400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10800000">
            <a:off x="766764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10800000">
            <a:off x="572400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rot="10800000">
            <a:off x="572400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10800000">
            <a:off x="766764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rot="10800000">
            <a:off x="572400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0800000">
            <a:off x="7236000" y="3068280"/>
            <a:ext cx="342720" cy="82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0800000">
            <a:off x="7667640" y="299736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0800000">
            <a:off x="6156360" y="3068280"/>
            <a:ext cx="34272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10800000">
            <a:off x="810108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0800000">
            <a:off x="6156360" y="2952720"/>
            <a:ext cx="34272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10800000">
            <a:off x="6156360" y="2893680"/>
            <a:ext cx="34272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10800000">
            <a:off x="810108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0800000">
            <a:off x="6156360" y="2707920"/>
            <a:ext cx="34272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0800000">
            <a:off x="8101080" y="3068280"/>
            <a:ext cx="34272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0800000">
            <a:off x="8101080" y="299736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0800000">
            <a:off x="658764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0800000">
            <a:off x="8532360" y="292428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0800000">
            <a:off x="658764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10800000">
            <a:off x="658764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rot="10800000">
            <a:off x="8532360" y="285264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10800000">
            <a:off x="658764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10800000">
            <a:off x="8532360" y="3068280"/>
            <a:ext cx="34308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10800000">
            <a:off x="8532360" y="299736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6587640" y="198900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08720" y="198900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16720" y="4221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7524360" y="4221000"/>
            <a:ext cx="360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0800000">
            <a:off x="6948000" y="623700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0800000">
            <a:off x="6948000" y="576108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0800000">
            <a:off x="6948000" y="566100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rot="10800000">
            <a:off x="6948000" y="537336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rot="10800000">
            <a:off x="6948000" y="522900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10800000">
            <a:off x="6948000" y="6430680"/>
            <a:ext cx="3430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rot="10800000">
            <a:off x="6948000" y="6379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10800000">
            <a:off x="6948000" y="609264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0800000">
            <a:off x="6948000" y="594972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rot="10800000">
            <a:off x="6948000" y="5805360"/>
            <a:ext cx="343080" cy="21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10800000">
            <a:off x="6948000" y="551628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10800000">
            <a:off x="6948000" y="580824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0800000">
            <a:off x="6948000" y="508464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0800000">
            <a:off x="6948000" y="494172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1989000"/>
            <a:ext cx="648000" cy="3240360"/>
          </a:xfrm>
          <a:custGeom>
            <a:avLst/>
            <a:gdLst>
              <a:gd name="textAreaLeft" fmla="*/ 86760 w 648000"/>
              <a:gd name="textAreaRight" fmla="*/ 561240 w 648000"/>
              <a:gd name="textAreaTop" fmla="*/ 679320 h 3240360"/>
              <a:gd name="textAreaBottom" fmla="*/ 229968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58" stAng="-5400000" swAng="-5400000"/>
                <a:lnTo>
                  <a:pt x="0" y="10800"/>
                </a:lnTo>
                <a:arcTo wR="21600" hR="9058" stAng="10800000" swAng="-2991956"/>
                <a:lnTo>
                  <a:pt x="14400" y="21082"/>
                </a:lnTo>
                <a:lnTo>
                  <a:pt x="21600" y="18987"/>
                </a:lnTo>
                <a:lnTo>
                  <a:pt x="14400" y="15856"/>
                </a:lnTo>
                <a:lnTo>
                  <a:pt x="14400" y="17598"/>
                </a:lnTo>
                <a:arcTo wR="21600" hR="9058" stAng="7808044" swAng="2852763"/>
                <a:lnTo>
                  <a:pt x="100" y="9929"/>
                </a:lnTo>
                <a:arcTo wR="21600" hR="9058" stAng="-10660807" swAng="5260807"/>
                <a:close/>
              </a:path>
              <a:path fill="darkenLess" w="21600" h="21600">
                <a:moveTo>
                  <a:pt x="21600" y="0"/>
                </a:moveTo>
                <a:arcTo wR="21600" hR="9058" stAng="-5400000" swAng="-5400000"/>
                <a:lnTo>
                  <a:pt x="0" y="9058"/>
                </a:lnTo>
                <a:arcTo wR="21600" hR="9058" stAng="10800000" swAng="-139193"/>
                <a:lnTo>
                  <a:pt x="100" y="9929"/>
                </a:lnTo>
                <a:arcTo wR="21600" hR="9058" stAng="-10660807" swAng="5260807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473040" y="581040"/>
            <a:ext cx="30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6,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-301320" y="1628640"/>
            <a:ext cx="9788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New online system for SK is under development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ts features ar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Record every hit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Preparing the prototype of data processing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 sorting and merging ) has been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Joint test with new electron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scheduled in summ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221440" y="1700280"/>
            <a:ext cx="3565440" cy="107928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2360" y="1413000"/>
            <a:ext cx="4535640" cy="158436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549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1, DAQ upgrade in Super-Kamioka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New Electronics (Nish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Book Antiqua"/>
                <a:ea typeface="Arial Unicode MS"/>
              </a:rPr>
              <a:t>* New Online system (this t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75840" y="3573360"/>
            <a:ext cx="63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The normal operation with new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and online system will start i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36720" y="1846440"/>
            <a:ext cx="30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589720"/>
            <a:ext cx="8353440" cy="288720"/>
          </a:xfrm>
          <a:prstGeom prst="rightArrow">
            <a:avLst>
              <a:gd name="adj1" fmla="val 56824"/>
              <a:gd name="adj2" fmla="val 814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580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0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616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852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4252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5373720"/>
            <a:ext cx="1655640" cy="216000"/>
          </a:xfrm>
          <a:custGeom>
            <a:avLst/>
            <a:gdLst>
              <a:gd name="textAreaLeft" fmla="*/ 258480 w 1655640"/>
              <a:gd name="textAreaRight" fmla="*/ 1449000 w 1655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0400" y="49528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537372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7080" y="4660920"/>
            <a:ext cx="15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ull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6560" y="328464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바탕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284640"/>
            <a:ext cx="813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5877000"/>
            <a:ext cx="865080" cy="863640"/>
          </a:xfrm>
          <a:prstGeom prst="upArrowCallout">
            <a:avLst>
              <a:gd name="adj1" fmla="val 13783"/>
              <a:gd name="adj2" fmla="val 25042"/>
              <a:gd name="adj3" fmla="val 16727"/>
              <a:gd name="adj4" fmla="val 808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7800" y="65833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5256360" cy="2458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19640" y="5373720"/>
            <a:ext cx="3745080" cy="12240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er trigg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 RI decay, γray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urrounding rock etc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0560" y="404640"/>
            <a:ext cx="78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2, Motivation for new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0" y="1628640"/>
            <a:ext cx="76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a,  Lower</a:t>
            </a:r>
            <a:r>
              <a:rPr b="0" lang="ja-JP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energy threshold for solar neut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4440" y="113652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sics in SK with new syste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276640"/>
            <a:ext cx="7561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 Determination of mixing angle 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ss difference Δ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 Observe energy dependence of  neutrino osci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3860640"/>
            <a:ext cx="3745080" cy="93528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wer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event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7080" y="4941720"/>
            <a:ext cx="287280" cy="358920"/>
          </a:xfrm>
          <a:prstGeom prst="downArrow">
            <a:avLst>
              <a:gd name="adj1" fmla="val 50000"/>
              <a:gd name="adj2" fmla="val 3123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560" y="3573360"/>
            <a:ext cx="61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c, Supernova neutrino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37520" y="47628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b, Relic Supernova neutr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56160" y="1989000"/>
            <a:ext cx="94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00μs-delayed gamma ray can be used for reducing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90560" y="2852640"/>
            <a:ext cx="7129440" cy="647640"/>
            <a:chOff x="1690560" y="2852640"/>
            <a:chExt cx="7129440" cy="647640"/>
          </a:xfrm>
        </p:grpSpPr>
        <p:sp>
          <p:nvSpPr>
            <p:cNvPr id="182" name=""/>
            <p:cNvSpPr/>
            <p:nvPr/>
          </p:nvSpPr>
          <p:spPr>
            <a:xfrm>
              <a:off x="2843280" y="2852640"/>
              <a:ext cx="5976720" cy="64764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79920" y="2925720"/>
              <a:ext cx="58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  <a:ea typeface="Arial Unicode MS"/>
                </a:rPr>
                <a:t>Long time for trigger window i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90560" y="31399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4680" y="1125360"/>
            <a:ext cx="57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Background neutrino from superno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which ever occurred in the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80400" y="476280"/>
            <a:ext cx="2654640" cy="1386720"/>
            <a:chOff x="6080400" y="476280"/>
            <a:chExt cx="2654640" cy="1386720"/>
          </a:xfrm>
        </p:grpSpPr>
        <p:sp>
          <p:nvSpPr>
            <p:cNvPr id="187" name=""/>
            <p:cNvSpPr/>
            <p:nvPr/>
          </p:nvSpPr>
          <p:spPr>
            <a:xfrm>
              <a:off x="6156000" y="476280"/>
              <a:ext cx="64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3640" y="1052640"/>
              <a:ext cx="14436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19640" y="1123920"/>
              <a:ext cx="502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2920" y="1123920"/>
              <a:ext cx="144000" cy="144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56360" y="908280"/>
              <a:ext cx="14400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78440" y="99072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4" y="92"/>
                  </a:moveTo>
                  <a:cubicBezTo>
                    <a:pt x="7" y="48"/>
                    <a:pt x="0" y="48"/>
                    <a:pt x="37" y="53"/>
                  </a:cubicBezTo>
                  <a:cubicBezTo>
                    <a:pt x="82" y="48"/>
                    <a:pt x="60" y="50"/>
                    <a:pt x="73" y="14"/>
                  </a:cubicBezTo>
                  <a:cubicBezTo>
                    <a:pt x="78" y="0"/>
                    <a:pt x="120" y="5"/>
                    <a:pt x="1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2360" y="1123920"/>
              <a:ext cx="142200" cy="144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59640" y="908280"/>
              <a:ext cx="14400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6560" y="981000"/>
              <a:ext cx="144000" cy="144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1880" y="1170000"/>
              <a:ext cx="272520" cy="428760"/>
            </a:xfrm>
            <a:custGeom>
              <a:avLst/>
              <a:gdLst/>
              <a:ahLst/>
              <a:rect l="l" t="t" r="r" b="b"/>
              <a:pathLst>
                <a:path w="172" h="270">
                  <a:moveTo>
                    <a:pt x="71" y="0"/>
                  </a:moveTo>
                  <a:cubicBezTo>
                    <a:pt x="61" y="3"/>
                    <a:pt x="44" y="15"/>
                    <a:pt x="44" y="15"/>
                  </a:cubicBezTo>
                  <a:cubicBezTo>
                    <a:pt x="0" y="81"/>
                    <a:pt x="82" y="73"/>
                    <a:pt x="119" y="75"/>
                  </a:cubicBezTo>
                  <a:cubicBezTo>
                    <a:pt x="140" y="82"/>
                    <a:pt x="143" y="112"/>
                    <a:pt x="125" y="126"/>
                  </a:cubicBezTo>
                  <a:cubicBezTo>
                    <a:pt x="116" y="133"/>
                    <a:pt x="94" y="135"/>
                    <a:pt x="83" y="138"/>
                  </a:cubicBezTo>
                  <a:cubicBezTo>
                    <a:pt x="77" y="142"/>
                    <a:pt x="71" y="146"/>
                    <a:pt x="65" y="150"/>
                  </a:cubicBezTo>
                  <a:cubicBezTo>
                    <a:pt x="62" y="152"/>
                    <a:pt x="56" y="156"/>
                    <a:pt x="56" y="156"/>
                  </a:cubicBezTo>
                  <a:cubicBezTo>
                    <a:pt x="39" y="206"/>
                    <a:pt x="124" y="194"/>
                    <a:pt x="146" y="195"/>
                  </a:cubicBezTo>
                  <a:cubicBezTo>
                    <a:pt x="172" y="234"/>
                    <a:pt x="137" y="231"/>
                    <a:pt x="113" y="234"/>
                  </a:cubicBezTo>
                  <a:cubicBezTo>
                    <a:pt x="107" y="252"/>
                    <a:pt x="110" y="240"/>
                    <a:pt x="110" y="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38760" y="155592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5280" y="1268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1000" y="1484280"/>
              <a:ext cx="33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80400" y="547920"/>
              <a:ext cx="34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33800" y="692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1440" y="76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84720" y="47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9800" y="547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8040" y="4724280"/>
            <a:ext cx="38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ey are very rare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8640" y="4292640"/>
            <a:ext cx="70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information for constructing supernov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0760" y="551664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not miss SN events when i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692360" y="6019920"/>
            <a:ext cx="7129440" cy="647640"/>
            <a:chOff x="1692360" y="6019920"/>
            <a:chExt cx="7129440" cy="647640"/>
          </a:xfrm>
        </p:grpSpPr>
        <p:sp>
          <p:nvSpPr>
            <p:cNvPr id="209" name=""/>
            <p:cNvSpPr/>
            <p:nvPr/>
          </p:nvSpPr>
          <p:spPr>
            <a:xfrm>
              <a:off x="2844720" y="6019920"/>
              <a:ext cx="5977080" cy="64764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75440" y="6093000"/>
              <a:ext cx="50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  <a:ea typeface="Arial Unicode MS"/>
                </a:rPr>
                <a:t>High availability system i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92360" y="6308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156360" y="62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2000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2M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rot="16200000">
            <a:off x="2050560" y="621360"/>
            <a:ext cx="144720" cy="3600360"/>
          </a:xfrm>
          <a:custGeom>
            <a:avLst/>
            <a:gdLst>
              <a:gd name="textAreaLeft" fmla="*/ 360 w 144720"/>
              <a:gd name="textAreaRight" fmla="*/ 52560 w 14472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57"/>
                </a:lnTo>
                <a:cubicBezTo>
                  <a:pt x="10800" y="9557"/>
                  <a:pt x="16200" y="10457"/>
                  <a:pt x="21600" y="10457"/>
                </a:cubicBezTo>
                <a:cubicBezTo>
                  <a:pt x="16200" y="10457"/>
                  <a:pt x="10800" y="11357"/>
                  <a:pt x="10800" y="122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3440" y="620640"/>
            <a:ext cx="60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online system should b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0080" y="4292640"/>
            <a:ext cx="548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 High availability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the observation of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9960" y="1557360"/>
            <a:ext cx="84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 Capable of high rate of trigger (not synchron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detection of faint sig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256536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w energy solar neutrino, SN, mu-decay, n-captured 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4600" y="3233880"/>
            <a:ext cx="54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trigger-les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ing all the hits from 13000P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43564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040" y="62388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3, Record Every Hit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2480" y="14158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060640"/>
            <a:ext cx="42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ber of h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ns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eds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2060640"/>
            <a:ext cx="3889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47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206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t Trig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2060640"/>
            <a:ext cx="2160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120" y="37893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3573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908000" y="2997360"/>
            <a:ext cx="432000" cy="576000"/>
            <a:chOff x="1908000" y="2997360"/>
            <a:chExt cx="432000" cy="576000"/>
          </a:xfrm>
        </p:grpSpPr>
        <p:sp>
          <p:nvSpPr>
            <p:cNvPr id="234" name=""/>
            <p:cNvSpPr/>
            <p:nvPr/>
          </p:nvSpPr>
          <p:spPr>
            <a:xfrm>
              <a:off x="1908000" y="2997360"/>
              <a:ext cx="432000" cy="576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7964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092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2400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5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00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5805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964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2256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6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909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220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3528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06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7164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1928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14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4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80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036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6280" y="436572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event trigger -&gt;  Use periodic trigger from 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4437000"/>
            <a:ext cx="7272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42920" y="638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08320" y="618480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pecified events by intelligent software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25800" y="14842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3000 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24360" y="2997360"/>
            <a:ext cx="431640" cy="576000"/>
            <a:chOff x="3924360" y="2997360"/>
            <a:chExt cx="431640" cy="576000"/>
          </a:xfrm>
        </p:grpSpPr>
        <p:sp>
          <p:nvSpPr>
            <p:cNvPr id="269" name=""/>
            <p:cNvSpPr/>
            <p:nvPr/>
          </p:nvSpPr>
          <p:spPr>
            <a:xfrm>
              <a:off x="3924360" y="2997360"/>
              <a:ext cx="431640" cy="576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9564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692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4000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11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08720" y="2997360"/>
            <a:ext cx="431640" cy="576000"/>
            <a:chOff x="5508720" y="2997360"/>
            <a:chExt cx="431640" cy="576000"/>
          </a:xfrm>
        </p:grpSpPr>
        <p:sp>
          <p:nvSpPr>
            <p:cNvPr id="275" name=""/>
            <p:cNvSpPr/>
            <p:nvPr/>
          </p:nvSpPr>
          <p:spPr>
            <a:xfrm>
              <a:off x="55087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508720" y="2997360"/>
              <a:ext cx="431640" cy="576000"/>
              <a:chOff x="5508720" y="2997360"/>
              <a:chExt cx="431640" cy="576000"/>
            </a:xfrm>
          </p:grpSpPr>
          <p:sp>
            <p:nvSpPr>
              <p:cNvPr id="277" name=""/>
              <p:cNvSpPr/>
              <p:nvPr/>
            </p:nvSpPr>
            <p:spPr>
              <a:xfrm>
                <a:off x="5508720" y="2997360"/>
                <a:ext cx="431640" cy="5760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8000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6512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243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9600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997360"/>
            <a:ext cx="3816360" cy="576000"/>
            <a:chOff x="1835280" y="2997360"/>
            <a:chExt cx="3816360" cy="576000"/>
          </a:xfrm>
        </p:grpSpPr>
        <p:sp>
          <p:nvSpPr>
            <p:cNvPr id="283" name=""/>
            <p:cNvSpPr/>
            <p:nvPr/>
          </p:nvSpPr>
          <p:spPr>
            <a:xfrm>
              <a:off x="3851280" y="2997360"/>
              <a:ext cx="432000" cy="576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22920" y="31417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94200" y="31417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67280" y="3068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385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364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5092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65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9640" y="3213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914560" y="2997360"/>
              <a:ext cx="432000" cy="576000"/>
              <a:chOff x="2914560" y="2997360"/>
              <a:chExt cx="432000" cy="576000"/>
            </a:xfrm>
          </p:grpSpPr>
          <p:sp>
            <p:nvSpPr>
              <p:cNvPr id="293" name=""/>
              <p:cNvSpPr/>
              <p:nvPr/>
            </p:nvSpPr>
            <p:spPr>
              <a:xfrm>
                <a:off x="291456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8620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574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305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220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490920" y="2997360"/>
              <a:ext cx="432000" cy="576000"/>
              <a:chOff x="3490920" y="2997360"/>
              <a:chExt cx="432000" cy="576000"/>
            </a:xfrm>
          </p:grpSpPr>
          <p:sp>
            <p:nvSpPr>
              <p:cNvPr id="299" name=""/>
              <p:cNvSpPr/>
              <p:nvPr/>
            </p:nvSpPr>
            <p:spPr>
              <a:xfrm>
                <a:off x="349092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62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63384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06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7856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219640" y="2997360"/>
              <a:ext cx="432000" cy="576000"/>
              <a:chOff x="5219640" y="2997360"/>
              <a:chExt cx="432000" cy="576000"/>
            </a:xfrm>
          </p:grpSpPr>
          <p:sp>
            <p:nvSpPr>
              <p:cNvPr id="305" name=""/>
              <p:cNvSpPr/>
              <p:nvPr/>
            </p:nvSpPr>
            <p:spPr>
              <a:xfrm>
                <a:off x="521964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912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62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3564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0728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1835280" y="2997360"/>
              <a:ext cx="431640" cy="576000"/>
              <a:chOff x="1835280" y="2997360"/>
              <a:chExt cx="431640" cy="576000"/>
            </a:xfrm>
          </p:grpSpPr>
          <p:sp>
            <p:nvSpPr>
              <p:cNvPr id="311" name=""/>
              <p:cNvSpPr/>
              <p:nvPr/>
            </p:nvSpPr>
            <p:spPr>
              <a:xfrm>
                <a:off x="1835280" y="2997360"/>
                <a:ext cx="43164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06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7784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50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2256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498920" y="2997360"/>
              <a:ext cx="431640" cy="576000"/>
              <a:chOff x="4498920" y="2997360"/>
              <a:chExt cx="431640" cy="576000"/>
            </a:xfrm>
          </p:grpSpPr>
          <p:sp>
            <p:nvSpPr>
              <p:cNvPr id="317" name=""/>
              <p:cNvSpPr/>
              <p:nvPr/>
            </p:nvSpPr>
            <p:spPr>
              <a:xfrm>
                <a:off x="4498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4498920" y="2997360"/>
                <a:ext cx="431640" cy="576000"/>
                <a:chOff x="4498920" y="2997360"/>
                <a:chExt cx="431640" cy="576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498920" y="2997360"/>
                  <a:ext cx="431640" cy="5760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57020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64148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714560" y="306864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786200" y="3284640"/>
                  <a:ext cx="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2338560" y="2997360"/>
              <a:ext cx="431640" cy="576000"/>
              <a:chOff x="2338560" y="2997360"/>
              <a:chExt cx="431640" cy="576000"/>
            </a:xfrm>
          </p:grpSpPr>
          <p:sp>
            <p:nvSpPr>
              <p:cNvPr id="325" name=""/>
              <p:cNvSpPr/>
              <p:nvPr/>
            </p:nvSpPr>
            <p:spPr>
              <a:xfrm>
                <a:off x="23385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2338560" y="2997360"/>
                <a:ext cx="431640" cy="576000"/>
                <a:chOff x="2338560" y="2997360"/>
                <a:chExt cx="431640" cy="576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338560" y="2997360"/>
                  <a:ext cx="431640" cy="5760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0984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8112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554200" y="306864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625840" y="3284640"/>
                  <a:ext cx="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>
            <a:off x="6711480" y="26575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ff"/>
                </a:solidFill>
                <a:uFillTx/>
                <a:latin typeface="Times New Roman"/>
              </a:rPr>
              <a:t>High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843280" y="2997360"/>
            <a:ext cx="2305080" cy="576000"/>
            <a:chOff x="2843280" y="2997360"/>
            <a:chExt cx="2305080" cy="576000"/>
          </a:xfrm>
        </p:grpSpPr>
        <p:sp>
          <p:nvSpPr>
            <p:cNvPr id="334" name=""/>
            <p:cNvSpPr/>
            <p:nvPr/>
          </p:nvSpPr>
          <p:spPr>
            <a:xfrm>
              <a:off x="2843280" y="2997360"/>
              <a:ext cx="2305080" cy="576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14560" y="3141720"/>
              <a:ext cx="792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86200" y="3141720"/>
              <a:ext cx="792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59280" y="3068640"/>
              <a:ext cx="792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30560" y="3284280"/>
              <a:ext cx="7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323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59280" y="3213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642000" y="316080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onger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14400" y="5805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it data contains timing information from periodi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6160" y="65833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572000" y="5734080"/>
            <a:ext cx="432108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62200" y="5877000"/>
            <a:ext cx="50328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2200" y="4508640"/>
            <a:ext cx="50328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2200" y="386064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2200" y="321300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62200" y="249228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2200" y="184464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8920" y="5877000"/>
            <a:ext cx="50328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58920" y="4508640"/>
            <a:ext cx="50328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58920" y="386064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58920" y="321300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58920" y="249228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58920" y="184464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4200" y="5877000"/>
            <a:ext cx="503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54200" y="4508640"/>
            <a:ext cx="503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54200" y="386064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4200" y="321300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54200" y="249228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54200" y="184464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50920" y="5877000"/>
            <a:ext cx="50328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50920" y="4508640"/>
            <a:ext cx="50328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50920" y="386064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50920" y="321300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50920" y="249228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50920" y="184464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40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Data processing in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06560" y="22780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06560" y="2925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06560" y="3645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06560" y="42940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06560" y="49435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06560" y="63118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11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1128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856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6692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2728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43280" y="25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82560" y="4724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50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43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5128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4620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03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1456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4620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25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2256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2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79640" y="609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8256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8764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1928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5128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222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589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66920" y="407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95640" y="465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38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22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16360" y="501336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70560" y="2349360"/>
            <a:ext cx="1152360" cy="309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11640" y="2058840"/>
            <a:ext cx="14047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82920" y="2706840"/>
            <a:ext cx="129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82920" y="3427560"/>
            <a:ext cx="1260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82920" y="3860640"/>
            <a:ext cx="126036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54560" y="4292280"/>
            <a:ext cx="118872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382920" y="5227200"/>
            <a:ext cx="129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22920" y="285264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22920" y="292428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22920" y="299736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22920" y="306864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22920" y="313992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2920" y="3355920"/>
            <a:ext cx="50328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22920" y="342900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22920" y="350028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22920" y="371628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22920" y="378792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2920" y="385920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22920" y="393048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22920" y="422100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22920" y="429264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22920" y="436392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22920" y="4148280"/>
            <a:ext cx="503280" cy="71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22920" y="5154480"/>
            <a:ext cx="503280" cy="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22920" y="508320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22920" y="5226120"/>
            <a:ext cx="503280" cy="7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22920" y="501012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85840" y="1844640"/>
            <a:ext cx="504360" cy="372960"/>
            <a:chOff x="285840" y="1844640"/>
            <a:chExt cx="504360" cy="372960"/>
          </a:xfrm>
        </p:grpSpPr>
        <p:sp>
          <p:nvSpPr>
            <p:cNvPr id="434" name=""/>
            <p:cNvSpPr/>
            <p:nvPr/>
          </p:nvSpPr>
          <p:spPr>
            <a:xfrm>
              <a:off x="285840" y="184464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4840" y="195156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85840" y="2492280"/>
            <a:ext cx="504360" cy="373320"/>
            <a:chOff x="285840" y="2492280"/>
            <a:chExt cx="504360" cy="373320"/>
          </a:xfrm>
        </p:grpSpPr>
        <p:sp>
          <p:nvSpPr>
            <p:cNvPr id="437" name=""/>
            <p:cNvSpPr/>
            <p:nvPr/>
          </p:nvSpPr>
          <p:spPr>
            <a:xfrm>
              <a:off x="285840" y="249228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4840" y="259920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5840" y="3213000"/>
            <a:ext cx="504360" cy="373320"/>
            <a:chOff x="285840" y="3213000"/>
            <a:chExt cx="504360" cy="373320"/>
          </a:xfrm>
        </p:grpSpPr>
        <p:sp>
          <p:nvSpPr>
            <p:cNvPr id="440" name=""/>
            <p:cNvSpPr/>
            <p:nvPr/>
          </p:nvSpPr>
          <p:spPr>
            <a:xfrm>
              <a:off x="285840" y="321300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4840" y="331992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85840" y="3860640"/>
            <a:ext cx="504360" cy="373320"/>
            <a:chOff x="285840" y="3860640"/>
            <a:chExt cx="504360" cy="373320"/>
          </a:xfrm>
        </p:grpSpPr>
        <p:sp>
          <p:nvSpPr>
            <p:cNvPr id="443" name=""/>
            <p:cNvSpPr/>
            <p:nvPr/>
          </p:nvSpPr>
          <p:spPr>
            <a:xfrm>
              <a:off x="285840" y="386064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4840" y="396756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85840" y="4508640"/>
            <a:ext cx="504360" cy="372960"/>
            <a:chOff x="285840" y="4508640"/>
            <a:chExt cx="504360" cy="372960"/>
          </a:xfrm>
        </p:grpSpPr>
        <p:sp>
          <p:nvSpPr>
            <p:cNvPr id="446" name=""/>
            <p:cNvSpPr/>
            <p:nvPr/>
          </p:nvSpPr>
          <p:spPr>
            <a:xfrm>
              <a:off x="285840" y="450864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4840" y="461556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5840" y="5877000"/>
            <a:ext cx="504360" cy="372960"/>
            <a:chOff x="285840" y="5877000"/>
            <a:chExt cx="504360" cy="372960"/>
          </a:xfrm>
        </p:grpSpPr>
        <p:sp>
          <p:nvSpPr>
            <p:cNvPr id="449" name=""/>
            <p:cNvSpPr/>
            <p:nvPr/>
          </p:nvSpPr>
          <p:spPr>
            <a:xfrm>
              <a:off x="285840" y="587700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4840" y="598392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32000" y="501336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200" y="641196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3000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67280" y="20588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33200" y="981000"/>
            <a:ext cx="4321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luding tim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(not in time or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948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542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22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5892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3880" y="113652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iodi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69080" y="429084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59840" y="5805360"/>
            <a:ext cx="433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rge and sort in tim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 hit from P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765840" y="2997360"/>
            <a:ext cx="2378160" cy="434880"/>
            <a:chOff x="6765840" y="2997360"/>
            <a:chExt cx="2378160" cy="434880"/>
          </a:xfrm>
        </p:grpSpPr>
        <p:sp>
          <p:nvSpPr>
            <p:cNvPr id="463" name=""/>
            <p:cNvSpPr/>
            <p:nvPr/>
          </p:nvSpPr>
          <p:spPr>
            <a:xfrm>
              <a:off x="8421480" y="2997360"/>
              <a:ext cx="503280" cy="432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18200" y="2997360"/>
              <a:ext cx="503280" cy="432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13480" y="2997360"/>
              <a:ext cx="5032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10200" y="2997360"/>
              <a:ext cx="503280" cy="432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6765840" y="2997360"/>
              <a:ext cx="2378160" cy="434880"/>
              <a:chOff x="6765840" y="2997360"/>
              <a:chExt cx="2378160" cy="434880"/>
            </a:xfrm>
          </p:grpSpPr>
          <p:sp>
            <p:nvSpPr>
              <p:cNvPr id="468" name=""/>
              <p:cNvSpPr/>
              <p:nvPr/>
            </p:nvSpPr>
            <p:spPr>
              <a:xfrm>
                <a:off x="6767640" y="343080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7236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04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71200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07280" y="30686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423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65840" y="3430800"/>
                <a:ext cx="237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5020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02560" y="30686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7822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67640" y="342900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7236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88360" y="314028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07280" y="314028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712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20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67640" y="343224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4364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23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85672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99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67640" y="343224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12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7564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64072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4364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28036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910200" y="2997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73840" y="2997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638920" y="32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42200" y="31417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78560" y="31417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804000" y="393372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20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636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02800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44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53272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451640" y="3645000"/>
            <a:ext cx="503280" cy="1439640"/>
            <a:chOff x="7451640" y="3645000"/>
            <a:chExt cx="503280" cy="1439640"/>
          </a:xfrm>
        </p:grpSpPr>
        <p:sp>
          <p:nvSpPr>
            <p:cNvPr id="509" name=""/>
            <p:cNvSpPr/>
            <p:nvPr/>
          </p:nvSpPr>
          <p:spPr>
            <a:xfrm>
              <a:off x="7451640" y="378936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51640" y="386244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51640" y="3933720"/>
              <a:ext cx="503280" cy="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51640" y="472428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51640" y="407520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1640" y="436392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51640" y="479736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51640" y="421956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51640" y="414828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51640" y="443700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51640" y="4869000"/>
              <a:ext cx="503280" cy="71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51640" y="494028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51640" y="4508640"/>
              <a:ext cx="50328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51640" y="4290840"/>
              <a:ext cx="503280" cy="7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51640" y="5013360"/>
              <a:ext cx="503280" cy="71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51640" y="458136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51640" y="4653000"/>
              <a:ext cx="50328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51640" y="400536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51640" y="3716280"/>
              <a:ext cx="503280" cy="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51640" y="364500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502240" y="4941720"/>
            <a:ext cx="180036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0044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800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480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0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Schematic view of new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2280" y="6093000"/>
            <a:ext cx="77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, MergerPC : Xeon 3GHz Dual Core Dual CPU  Memory 2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116000" y="1500120"/>
            <a:ext cx="289080" cy="214560"/>
            <a:chOff x="1116000" y="1500120"/>
            <a:chExt cx="289080" cy="214560"/>
          </a:xfrm>
        </p:grpSpPr>
        <p:sp>
          <p:nvSpPr>
            <p:cNvPr id="536" name=""/>
            <p:cNvSpPr/>
            <p:nvPr/>
          </p:nvSpPr>
          <p:spPr>
            <a:xfrm>
              <a:off x="1116000" y="1500120"/>
              <a:ext cx="108360" cy="21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24360" y="1561680"/>
              <a:ext cx="180720" cy="92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4643280" y="17715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6160" y="2709720"/>
            <a:ext cx="25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116000" y="1773360"/>
            <a:ext cx="289080" cy="214200"/>
            <a:chOff x="1116000" y="1773360"/>
            <a:chExt cx="289080" cy="214200"/>
          </a:xfrm>
        </p:grpSpPr>
        <p:sp>
          <p:nvSpPr>
            <p:cNvPr id="541" name=""/>
            <p:cNvSpPr/>
            <p:nvPr/>
          </p:nvSpPr>
          <p:spPr>
            <a:xfrm>
              <a:off x="1116000" y="177336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24360" y="183456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16000" y="2060640"/>
            <a:ext cx="289080" cy="214200"/>
            <a:chOff x="1116000" y="2060640"/>
            <a:chExt cx="289080" cy="214200"/>
          </a:xfrm>
        </p:grpSpPr>
        <p:sp>
          <p:nvSpPr>
            <p:cNvPr id="544" name=""/>
            <p:cNvSpPr/>
            <p:nvPr/>
          </p:nvSpPr>
          <p:spPr>
            <a:xfrm>
              <a:off x="1116000" y="206064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24360" y="212184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16000" y="2349360"/>
            <a:ext cx="289080" cy="214560"/>
            <a:chOff x="1116000" y="2349360"/>
            <a:chExt cx="289080" cy="214560"/>
          </a:xfrm>
        </p:grpSpPr>
        <p:sp>
          <p:nvSpPr>
            <p:cNvPr id="547" name=""/>
            <p:cNvSpPr/>
            <p:nvPr/>
          </p:nvSpPr>
          <p:spPr>
            <a:xfrm>
              <a:off x="1116000" y="2349360"/>
              <a:ext cx="108360" cy="21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24360" y="2410920"/>
              <a:ext cx="180720" cy="92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116000" y="2637000"/>
            <a:ext cx="289080" cy="214200"/>
            <a:chOff x="1116000" y="2637000"/>
            <a:chExt cx="289080" cy="214200"/>
          </a:xfrm>
        </p:grpSpPr>
        <p:sp>
          <p:nvSpPr>
            <p:cNvPr id="550" name=""/>
            <p:cNvSpPr/>
            <p:nvPr/>
          </p:nvSpPr>
          <p:spPr>
            <a:xfrm>
              <a:off x="1116000" y="263700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24360" y="269820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052720" y="1486080"/>
            <a:ext cx="863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3080" y="50133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05560" y="5013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405080" y="1557360"/>
            <a:ext cx="647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405080" y="1628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405080" y="1701360"/>
            <a:ext cx="6476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405080" y="1773000"/>
            <a:ext cx="6476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405080" y="1844280"/>
            <a:ext cx="647640" cy="86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3520" y="148428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02960" y="501336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16360" y="1557360"/>
            <a:ext cx="8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916360" y="162864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49800" y="1197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P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43320" y="11955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QB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916360" y="177336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91280" y="133992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35640" y="1484280"/>
            <a:ext cx="863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43640" y="1484280"/>
            <a:ext cx="1008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2720" y="191772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52720" y="234936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52720" y="2781360"/>
            <a:ext cx="863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52720" y="321300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916360" y="1915920"/>
            <a:ext cx="863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916360" y="2060280"/>
            <a:ext cx="863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73520" y="220356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73520" y="292428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1280" y="249228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2637000"/>
            <a:ext cx="86364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43640" y="2637000"/>
            <a:ext cx="100800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1280" y="364500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35640" y="3789360"/>
            <a:ext cx="863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3789360"/>
            <a:ext cx="1008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6240" y="494172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177156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43280" y="1844640"/>
            <a:ext cx="57636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643280" y="191772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643280" y="29955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643280" y="2060640"/>
            <a:ext cx="6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43280" y="241920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3280" y="2490840"/>
            <a:ext cx="57636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43280" y="321156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02480" y="2924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40000" y="206064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orma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02480" y="184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02480" y="4149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07280" y="45799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96000" y="45086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3280" y="40291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43280" y="450864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12280" y="357336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TCP implemented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43280" y="1052640"/>
            <a:ext cx="0" cy="3744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356000" y="5589720"/>
            <a:ext cx="4537080" cy="107928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2625000">
            <a:off x="4859280" y="292212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4920" y="552600"/>
            <a:ext cx="75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Large data flow of the new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19280" y="191448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057400"/>
            <a:ext cx="57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00720" y="5661000"/>
            <a:ext cx="429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GbE or 10Gb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Distribute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19280" y="227484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19280" y="263520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19280" y="299556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19280" y="335448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19280" y="371484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19280" y="407520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19280" y="443556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19280" y="4794120"/>
            <a:ext cx="934920" cy="2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19280" y="5154480"/>
            <a:ext cx="934920" cy="2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40360" y="2419200"/>
            <a:ext cx="934920" cy="6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40360" y="3571920"/>
            <a:ext cx="9349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563920"/>
            <a:ext cx="934920" cy="9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04000" y="3645000"/>
            <a:ext cx="9349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954920" y="3645000"/>
            <a:ext cx="9349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54920" y="2563920"/>
            <a:ext cx="934920" cy="9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0560" y="2295360"/>
            <a:ext cx="25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800000">
            <a:off x="6659280" y="2637000"/>
            <a:ext cx="2087640" cy="502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800000">
            <a:off x="155520" y="2433240"/>
            <a:ext cx="174168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kHz/PM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5400000">
            <a:off x="2843280" y="241956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68360" y="1843200"/>
            <a:ext cx="504360" cy="372960"/>
            <a:chOff x="468360" y="1843200"/>
            <a:chExt cx="504360" cy="372960"/>
          </a:xfrm>
        </p:grpSpPr>
        <p:sp>
          <p:nvSpPr>
            <p:cNvPr id="629" name=""/>
            <p:cNvSpPr/>
            <p:nvPr/>
          </p:nvSpPr>
          <p:spPr>
            <a:xfrm>
              <a:off x="468360" y="184320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7360" y="195012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V="1">
            <a:off x="1116000" y="213012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258920" y="220320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536200">
            <a:off x="2484000" y="2130480"/>
            <a:ext cx="647640" cy="142920"/>
          </a:xfrm>
          <a:prstGeom prst="rightArrow">
            <a:avLst>
              <a:gd name="adj1" fmla="val 50000"/>
              <a:gd name="adj2" fmla="val 113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382400">
            <a:off x="2711160" y="2506680"/>
            <a:ext cx="358560" cy="142920"/>
          </a:xfrm>
          <a:prstGeom prst="rightArrow">
            <a:avLst>
              <a:gd name="adj1" fmla="val 50000"/>
              <a:gd name="adj2" fmla="val 6272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332400">
            <a:off x="2553840" y="271260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20714400">
            <a:off x="2556000" y="299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635280" y="24908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2843280" y="357192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35280" y="364320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24200" y="169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41800" y="16272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Base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93440" y="16272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800000">
            <a:off x="3623760" y="2515680"/>
            <a:ext cx="194472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MB/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5363640" y="3643200"/>
            <a:ext cx="1008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800000">
            <a:off x="1403280" y="1987200"/>
            <a:ext cx="140328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MB/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76720" y="37148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9570800">
            <a:off x="6084720" y="2852280"/>
            <a:ext cx="8636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40360" y="4722840"/>
            <a:ext cx="9349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2843280" y="472284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35280" y="479412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8818400">
            <a:off x="4989600" y="44510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56360" y="3500280"/>
            <a:ext cx="72072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20720" y="26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68360" y="26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27640" y="1484280"/>
            <a:ext cx="259236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=84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3640" y="602136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ly measured rate is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6:03:15Z</dcterms:created>
  <dc:creator>yamada</dc:creator>
  <dc:description/>
  <dc:language>en-US</dc:language>
  <cp:lastModifiedBy>yamada</cp:lastModifiedBy>
  <dcterms:modified xsi:type="dcterms:W3CDTF">2007-03-27T10:08:47Z</dcterms:modified>
  <cp:revision>245</cp:revision>
  <dc:subject/>
  <dc:title>PowerPoint Presentation</dc:title>
</cp:coreProperties>
</file>